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B7F1-FE67-4CD0-A8D5-1A7E08171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5397-DFD4-4330-96FF-7F019285D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4F4C12-2731-4D0D-B9E1-C2483C0CF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AB4117-42D7-4E21-BF47-557CDAD31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C01C24-98C7-4E9B-9935-A9082E740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D35218-5C78-4F14-B45C-9AC4BC4AB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F96573-E71B-49DF-90E8-1F83E951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A54BD7-6246-4821-92C1-E506D1B1C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C7C52C-E76D-446D-8105-D2ED91DF7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53E502-F418-4609-9C06-EA7FA76C4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8392BE-C9C3-4ABD-9DCE-275D19143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1EA21B1-8C34-4229-82D6-6C04FA529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1068-6050-462E-A177-EC6FD6082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A951C5B-3972-4711-84D0-518C73C82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DF87FC9-C03F-40C9-BDFD-3214BBD39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DC81D1F-D600-466D-8F17-A6E7850BA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D40EA09-B072-48CE-BFB1-E981C0E2C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FC178B4-4786-444E-87F4-B0C8B345A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7BC08FA-639C-4799-B433-DD48704B2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7A22A51-152F-4F27-AA65-4DD6F07B0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1787BE8-1A69-4B47-92B2-6B109C429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59D7577-26D7-4786-A628-ED33E04B6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3DA4E85-FFAC-4FA7-BF40-3B3DD1FA2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686A-D16A-45DF-9247-AF44723F5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688F35F-7FD6-44E9-8F11-1E7C4AD5F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2E406C-B50F-4FDD-B54B-4FDDF2D85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279A3C-B172-405D-B316-76DD9F663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63F123-0D3D-4EAC-90B2-B401D917C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9555D3-5109-42C3-9A9F-CAFFB30F3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FAD813-5F98-4F48-9EFB-3A903E4A0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C167E5-5264-4197-ACBC-5B40DED6F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032677-8E14-4F0B-898F-E8FBD048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BC13E6-9EAA-4D23-BD4F-111C7C5B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2A4885-8B61-45E1-8C94-675B7847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97098-BF17-4A19-A558-DF9589481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FCC5F0-1E92-484B-99B7-C99C9F02D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731300-68E9-4A94-B839-5E5D7C02D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67847D-82EA-46C2-80AB-8010563F6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3EABD1-511F-43B2-BE10-94F060442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A3269F-4C7E-49A0-B342-FE19EA47A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71E8C1-C441-43F3-858A-F0B7E100E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BDA66A-719E-46B0-B4C9-F5680C19B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AE4552-5894-4FFF-9AAF-248BF2CAE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E2E55E-515F-49A5-84C7-4D9B87095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814F70-CA20-4640-A255-EF92F60A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B5FFE-918B-4B2D-B073-3F6BCB0BD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B176DB-3B66-4176-9366-210FC20B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239497-9407-4B25-BF70-32B96B02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D19334-EBAC-414A-B8EB-2F143806B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43FD9D-CC0B-4A8F-9EEA-CB0D99C20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85A70A-D849-4263-B305-0C022A916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9B00E-C321-4A00-937B-2ADF23E2C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51AFD-8E71-47D7-A0E8-49328F290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6837C-3AD1-443D-AF30-E17EFBC7A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DCD48-8BA8-4EAF-9F14-8EB3F40F4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BDEC5-D16D-4497-9E4A-A3948E5AF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40CA-4293-4C9A-B715-386151AC1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CD620-DC31-433A-844E-59B9A7C80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2C284-2CF8-4341-8120-D33F6CF5C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86796-6868-47DF-81D8-8F01F2691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55376-71D4-4AFF-85A1-4844341C0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8F685-55C2-46D1-AC94-8EB9AA8FE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C4682-CECB-4016-96E0-6FB9DDD62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5A739-01D5-4242-88AE-1ADBA903A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3DDA3-DB3B-4EC4-863E-C3C223EDA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4C892-5273-467C-A469-1B4DD3C04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F99AF-E62F-4DA1-A29C-FDF6CA99F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E3DA-8D0F-4633-B481-74E9BF429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D5AF6-D5CE-4B79-A919-B0F847E32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A7273-5981-422C-A499-AE1895BCE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0F0A4-09E9-4ADD-AE40-2253962B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B44B3-2870-427D-8A18-7B3AB8C0F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25607-92CC-4A3A-B6D8-8BE927830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7D7DF-E5B2-43A3-A574-4FE5AB678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E99F9-8C9E-4B4F-8A8C-677D331D4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308AB-8C00-4028-849A-C7550FDFB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30BD5-3B3F-48FE-B625-D5EFE394A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61640-7F45-443A-AD79-71E83E05B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A587-BEA7-441D-B61B-159ED0304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578E1-E39C-4AA3-AB06-6C9019372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A4AD2-358F-4677-877C-3E83DBEB8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10D0A-B335-4A54-8B10-093565340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44701-9C61-4C6A-AD56-58821FD31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87B55-83B9-478A-A7BA-CE73FEB7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C7CCA-2B56-4200-926F-46AE371C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0D986-6B0C-47F1-A111-93C82DCF5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1F10F-EFD3-4ABF-934C-252B1D490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FC6DE-9DA2-4242-8994-402A78958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F75D15-BB89-420B-8482-F8E670581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5D30-7B39-431B-A8BE-AFB7F8207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3389A9-37AC-4CDD-8DBB-29BACB742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13E0D0-076C-4747-82DC-4DD9E8CD0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A0A791-2B26-47F2-8B9C-7B3663AE5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D30994-FCEF-48C5-BC8E-D708196C7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4A54BA-413E-43CB-9B7A-133132BC5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BF8230-21ED-4484-BA6E-E75D9251E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2D6B06-A2C7-46DC-B0CF-28EC745E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CBD4F5-3254-44DA-B1E3-F87F77D7A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F28688-2FDD-48CF-94A1-70BDF5E9C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59ECF0-9BE0-49E0-8814-19A5E2914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39B3-EA81-4D4A-B865-E325034CA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087447-86B1-4EBC-BFB9-FF46DBDEA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7EFD1E-0F6A-4FA7-9A6A-2E597F5E6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D68DF1-399A-4421-B25E-49F291609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51CF73-7BAB-42FD-B03D-358296738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F961AE-CF4C-4812-825E-BFBE3677D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71B46F-BB60-4F7C-BDAC-DAA0979BB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77F9F5-66A3-44BC-9B1A-D02BC04A1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550F86-4751-49FB-9401-5B403B20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04EBE-E8C7-48E9-807B-22316E64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45FA20-93C7-4C27-A49F-E16B3E2F9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F22F-A39A-48B9-B4D9-B3F2F9226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92767-18E5-4EF7-8377-50695D0E4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8879E-ABDD-4CA2-9621-0EA15002E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777C0B-F538-48A2-ABC6-F257633E1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A8BC8B-90E6-4E47-B054-33461F289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4CC469-0AC6-4E90-A62A-35D5F3E97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A2B3EB-2E94-437E-99B2-A4A1CE7CD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CA07DA-8B23-4B9F-86CD-136F6E9F2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CBE218-5939-4A7E-A7C4-BF0777ED2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02EC1C-0400-4499-B578-D090340A7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F56BB8-9B90-4E58-BE07-F6F8F282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763F-BFDD-47FA-A5A0-55E3C3A9D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4454B4-B6F3-44DF-A102-3D65B6742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95282D-D91B-4E6A-882D-C40F34060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9C9A3E-A56C-4A72-B0BD-C157AF6D2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58F519-CD5B-4646-A757-12B231242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663698-F03C-47D1-8948-946B1CDD5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DF48F2-682E-4460-8034-319A6360A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7BDEF8-118B-418D-BD96-77DF4AA07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D93A83-A6D7-421E-B93A-5B698C46C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D5086B-BC99-4EBE-A15D-D271B711B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1D70D5-D37F-4586-B639-D3E0FA51F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3DF9-3A8A-443D-85C0-4F478CEF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824733-EE15-456C-B1C6-3FAD2CF05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751048-EBC8-480B-BE52-90E02322D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66A78F-4549-4ACE-B864-BB2841B1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0976F4-0D0A-47CC-A8EC-824539CC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5589F1-D79D-4659-B445-88BD89473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E40B53-8DE6-48A6-B1CA-BAE6AD099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A93E2C-1C42-43EA-835A-D3767AE11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F74F17-848E-4BE2-9E96-F67111C12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98A0C3-87E0-4F18-BD81-168EAE07A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93258D-15E4-4DDB-A6EF-8A511FB52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B3086-1E65-4243-B5E3-66A806188896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71884-AF9E-43D5-A2B5-7A081349FFD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0DE80-F45C-47EC-B0B3-15027051C1C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333A0-394F-4306-9013-66E48F3637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3BB63-2755-4A54-96E0-0CB84706CB54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466B2-07C0-4012-997C-9E3B87919B67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9C9F2-8339-4332-9EC6-3BECAEBE5C5F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3AED3-C905-4A1B-830D-6E2CB1C01CF4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5964C-C775-4A8B-8FF9-C63651ECCD43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819D9-A98D-4D05-A19D-6996C8240A1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F12CB-64C4-458E-89EF-0F19E7D5318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55C9E-580F-460E-9523-FE96FBA112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543CE-7BA1-4381-95F6-EE269A0DABC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28598-7A79-49B9-B429-41E0CD7D6C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01E8F-0C16-416A-BCB5-63F3F9E1BA3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00E5B-9E6E-4D09-836F-7704A6845A44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921B0-A85D-420B-BB65-0D6364AB1A6A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9C619-16DE-47EB-A8B4-2365A8CB1FC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CC391-1CD1-49CF-ADA1-233BFDC51A73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E1C09-3576-47E8-BCFC-95FF45491C7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945A6-346C-44FC-8E01-1EBDD451048F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893C1-0716-4B16-8F40-4E06E3AB842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C3B87-4B0F-4FC2-B4DB-00AE97FD201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5A267-EB98-425F-A239-52C103463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7545-838F-4564-B420-E10871B2BF5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0B9CF4-348C-4CDE-A3F2-752CBB8E5A9C}" type="datetime1">
              <a:rPr lang="en-US"/>
              <a:t>07/31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D9FB67-CB22-4C5D-9B2D-9E837B8D84F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031FB26C-0D04-493F-A9A1-99559B7D43E4}" type="datetime1">
              <a:rPr lang="en-US"/>
              <a:t>07/31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115" dur="1230" fill="hold"/>
                                        <p:tgtEl>
                                          <p:spTgt spid="1197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116" dur="123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117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118" dur="123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119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0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" dur="2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2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2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8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6F3B4-C101-49BA-AB05-DD896F1F360F}" type="slidenum">
              <a:t>3</a:t>
            </a:fld>
          </a:p>
        </p:txBody>
      </p:sp>
    </p:spTree>
  </p:cSld>
  <p:transition>
    <p:comb dir="horz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3000"/>
                            </p:stCondLst>
                            <p:childTnLst>
                              <p:par>
                                <p:cTn id="1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000"/>
                            </p:stCondLst>
                            <p:childTnLst>
                              <p:par>
                                <p:cTn id="1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0"/>
                            </p:stCondLst>
                            <p:childTnLst>
                              <p:par>
                                <p:cTn id="19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88A0D7-A275-4002-A08A-9B261E0CE1CC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526B317B-ADA7-437B-B6DC-EB5B18011216}" type="datetime1">
              <a:rPr lang="en-US"/>
              <a:t>07/31/26</a:t>
            </a:fld>
          </a:p>
        </p:txBody>
      </p:sp>
    </p:spTree>
  </p:cSld>
  <p:transition>
    <p:wedge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6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4000"/>
                            </p:stCondLst>
                            <p:childTnLst>
                              <p:par>
                                <p:cTn id="2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4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8000"/>
                            </p:stCondLst>
                            <p:childTnLst>
                              <p:par>
                                <p:cTn id="2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8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6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052BB3-F709-414C-A572-98E86625D6E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BD1D1DAE-D4A8-47C4-BCF2-827E23F5C38B}" type="datetime1">
              <a:rPr lang="en-US"/>
              <a:t>07/31/26</a:t>
            </a:fld>
          </a:p>
        </p:txBody>
      </p:sp>
    </p:spTree>
  </p:cSld>
  <p:transition>
    <p:wipe dir="d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3000"/>
                            </p:stCondLst>
                            <p:childTnLst>
                              <p:par>
                                <p:cTn id="2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4000"/>
                            </p:stCondLst>
                            <p:childTnLst>
                              <p:par>
                                <p:cTn id="2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0"/>
                            </p:stCondLst>
                            <p:childTnLst>
                              <p:par>
                                <p:cTn id="2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000"/>
                            </p:stCondLst>
                            <p:childTnLst>
                              <p:par>
                                <p:cTn id="3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7000"/>
                            </p:stCondLst>
                            <p:childTnLst>
                              <p:par>
                                <p:cTn id="3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8000"/>
                            </p:stCondLst>
                            <p:childTnLst>
                              <p:par>
                                <p:cTn id="3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9000"/>
                            </p:stCondLst>
                            <p:childTnLst>
                              <p:par>
                                <p:cTn id="3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3000"/>
                            </p:stCondLst>
                            <p:childTnLst>
                              <p:par>
                                <p:cTn id="35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3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3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8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1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3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B20B61-CD8F-4F60-82BA-8F22698D69F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5CC0CEA3-C1CF-4D67-B093-577AC0B5B912}" type="datetime1">
              <a:rPr lang="en-US"/>
              <a:t>07/31/26</a:t>
            </a:fld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8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9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2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7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8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