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0F72F-9FA2-421D-B11E-6632E15123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AAC5E-17F2-4531-8E74-028F24E9FE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1D4E7-AC02-4319-BE13-88A36F395A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8978B-1262-45E4-B30E-10423B99BA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DB590-4ADD-4DF1-86DE-3217EC83A3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01E7D-8714-4DC7-ABB0-3B16B56209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16959-1B90-4307-B66B-7701693967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F1EF2-85A4-4C3A-8029-8ADA7C431B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381C8-1BCC-44F8-8572-EA9FA7C75B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BA988-7F88-4EC8-B655-8AEE529ACA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314F7-10BC-4A8D-8461-10F53493F9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E89BC-A4E4-403A-B852-0D9591985F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56613-C339-4A84-96BE-B77710AD31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CAEA1-2F4D-4995-BEF5-6274E531EA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B9EE5-E4C6-4DAC-B7E9-3246AFB3C8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E7009-ACEF-4475-BDE6-59588D3952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040BF-9016-42A3-8EA7-38E1E87E930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8CFB3-7D41-42BB-9BA1-5778ECB12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52C57-FE37-4889-AAFB-74EC78CD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12B8A-713B-4AEA-BB91-9683CAA1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1EB89-3C81-4A91-ABAE-81C98E27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F74B2-F94E-416B-B89D-DC1E2A01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4E17D-BAA3-4ED0-9504-24E143CC3B8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813E2-464F-4CAD-B9E0-989F371D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1C8F3-98CE-4A7F-BF39-D9B89B07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E01EB-5D1A-421D-BAFD-29B0812B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0E09A-19BC-453B-A81F-AF98ED51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36C51-529C-4C65-8A5D-BF04A6DA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E4498-BE29-4BB8-B29A-D010382C6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EC2A4-F79E-43AA-B49B-9E3374A1F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4D7A5-43EA-4EE7-9D0E-6C9DF12D41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B7E39-CDD6-48C2-9800-F0BAC9103F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44886-8CF7-4311-BF6A-955BF00728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A9249-A754-45C1-89B8-4A78082FDA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E0CEF-225E-473A-A977-05974EF175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9FEE7-767B-491E-9231-848A8F3A18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120" y="137880"/>
            <a:ext cx="7886520" cy="5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4320" y="8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62640" y="6500520"/>
            <a:ext cx="981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3B92-8B80-4A78-87AB-6E3DEFA57FFB}" type="slidenum">
              <a: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8400" y="6553080"/>
            <a:ext cx="2832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0" tIns="128520" bIns="496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8720" y="60480"/>
            <a:ext cx="183528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6836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552720"/>
            <a:ext cx="213372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ECFE-68AD-4D5A-8FC7-6A9D4AFC2247}" type="slidenum"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27040" y="6642360"/>
            <a:ext cx="273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440" y="732240"/>
            <a:ext cx="174456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D326-0BF8-4540-9FFC-A1C6A25B8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79840" y="3225960"/>
          <a:ext cx="576000" cy="561960"/>
        </p:xfrm>
        <a:graphic>
          <a:graphicData uri="http://schemas.openxmlformats.org/drawingml/2006/table">
            <a:tbl>
              <a:tblPr/>
              <a:tblGrid>
                <a:gridCol w="191880"/>
                <a:gridCol w="192240"/>
                <a:gridCol w="191880"/>
              </a:tblGrid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86440" y="2762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象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3000" y="34210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2"/>
            <a:endCxn id="125" idx="1"/>
          </p:cNvCxnSpPr>
          <p:nvPr/>
        </p:nvCxnSpPr>
        <p:spPr>
          <a:xfrm flipH="1" rot="16200000">
            <a:off x="1673640" y="2548080"/>
            <a:ext cx="387720" cy="143172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173680" y="371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ログ表に記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346560"/>
            <a:ext cx="91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226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602440" y="2763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作業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312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420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2" idx="3"/>
            <a:endCxn id="133" idx="1"/>
          </p:cNvCxnSpPr>
          <p:nvPr/>
        </p:nvCxnSpPr>
        <p:spPr>
          <a:xfrm>
            <a:off x="1544760" y="2536560"/>
            <a:ext cx="1009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69320" y="2540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並び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7840" y="25020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0920" y="250200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3"/>
            <a:endCxn id="137" idx="1"/>
          </p:cNvCxnSpPr>
          <p:nvPr/>
        </p:nvCxnSpPr>
        <p:spPr>
          <a:xfrm>
            <a:off x="3489480" y="2538360"/>
            <a:ext cx="1441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325680" y="34210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9" idx="3"/>
            <a:endCxn id="141" idx="4"/>
          </p:cNvCxnSpPr>
          <p:nvPr/>
        </p:nvCxnSpPr>
        <p:spPr>
          <a:xfrm flipV="1">
            <a:off x="3397320" y="2646360"/>
            <a:ext cx="705240" cy="81144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994200" y="2428920"/>
            <a:ext cx="216000" cy="21744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2560" y="291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反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5456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342760" y="2828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テーブルを切り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flipH="1">
            <a:off x="7884720" y="2349360"/>
            <a:ext cx="722520" cy="10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50022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794200" y="2502000"/>
            <a:ext cx="287640" cy="144360"/>
          </a:xfrm>
          <a:prstGeom prst="leftRightArrow">
            <a:avLst>
              <a:gd name="adj1" fmla="val 50000"/>
              <a:gd name="adj2" fmla="val 39666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997360"/>
            <a:ext cx="7128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765000"/>
            <a:ext cx="8856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ツールは、テーブルを再編成し、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断片化を解消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し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の間も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参照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/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更新処理をブロックしな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ことが特徴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に一度のメンテナンスでも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B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止めずに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4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65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運転が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VACUUM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不足でテーブルが肥大化しても、サービスを止めずに回復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500280"/>
            <a:ext cx="1440000" cy="865440"/>
          </a:xfrm>
          <a:prstGeom prst="wedgeRoundRectCallout">
            <a:avLst>
              <a:gd name="adj1" fmla="val -50439"/>
              <a:gd name="adj2" fmla="val -79175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差分を反映し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更新結果を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引き継ぎ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3500280"/>
            <a:ext cx="1295280" cy="648000"/>
          </a:xfrm>
          <a:prstGeom prst="wedgeRoundRectCallout">
            <a:avLst>
              <a:gd name="adj1" fmla="val -89217"/>
              <a:gd name="adj2" fmla="val -104412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切り替えは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瞬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57320" y="4508640"/>
          <a:ext cx="2685960" cy="191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7320" y="4508640"/>
                    <a:ext cx="26859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127960" y="4214880"/>
            <a:ext cx="19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時間の比較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G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440" y="6165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2920" y="4795920"/>
            <a:ext cx="1801800" cy="1225440"/>
          </a:xfrm>
          <a:prstGeom prst="wedgeRoundRectCallout">
            <a:avLst>
              <a:gd name="adj1" fmla="val -80134"/>
              <a:gd name="adj2" fmla="val 18393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断片化が進ん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に対して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ツールより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高速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200" y="5013360"/>
          <a:ext cx="2089440" cy="1098360"/>
        </p:xfrm>
        <a:graphic>
          <a:graphicData uri="http://schemas.openxmlformats.org/drawingml/2006/table">
            <a:tbl>
              <a:tblPr/>
              <a:tblGrid>
                <a:gridCol w="417600"/>
                <a:gridCol w="951120"/>
                <a:gridCol w="720720"/>
              </a:tblGrid>
              <a:tr h="549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_re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300720" y="4437000"/>
            <a:ext cx="2592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 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ostgreSQL 8.3.3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2008-09-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52:56Z</dcterms:created>
  <dc:creator> </dc:creator>
  <dc:description/>
  <dc:language>en-US</dc:language>
  <cp:lastModifiedBy>itagaki</cp:lastModifiedBy>
  <dcterms:modified xsi:type="dcterms:W3CDTF">2008-11-25T07:01:26Z</dcterms:modified>
  <cp:revision>761</cp:revision>
  <dc:subject/>
  <dc:title>OSS故障解析はここまでできる</dc:title>
</cp:coreProperties>
</file>