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71169A-8DF0-4F1E-81C6-E286FB652D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7F15FB-CBE7-48DD-B82E-541179615D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FCF382-D968-467E-B05F-76B1C9C325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3E9D24-44D9-4A50-9243-74B74D46D8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C4FF41-285F-4508-9EA9-D82E0781CA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01798A-3C51-4A6C-ABB3-E61CDDE1AD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312D4D-B26F-4978-915E-DDEC3A3B03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7DFBB0-35B6-4CD9-A6BB-249412B467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FCEB96-544F-4B24-92C4-9A00C6A125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21FC8B-2A02-446C-A98C-C2DF361F38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31F14E-3623-48B9-A382-D023DAED77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F3CEDC-72AC-4A52-8FD6-67929D4346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804EC6-F342-4F36-9E69-C0EB40CCBE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3BAD7B-619A-4688-B534-1199B72045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8841D1-2A6A-495E-982E-FF83CB4190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5503008-ACD4-4831-8074-D0C97338DE2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D2BA55-A479-4FFA-805C-8EBAC90C27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EAB00F-FF45-4853-8A56-8D4307B067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9CFA4B-137A-474A-8EE5-F4C1BA51AA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DD73CE-4A24-4B88-9C8E-3CD197A120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37CD11-CE1D-498A-B95F-3E4773F06F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1FA33E-4758-4711-80AA-79A1AC611F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DE2C00-6327-4667-95EF-4FC4ECD8B2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20CA8D-BD9B-43A3-8CA9-B788B24669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5E0BA-3123-4C43-8B9A-EFBC5324ACF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1A3D6-4DEF-4ECC-AD4F-A537AF2BFC9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75B3403-E0F7-40FB-AA6F-C9A1BE4A835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B9EE776-3240-41EB-A83F-C35BC414981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150297-71C0-4016-9DA4-1AA4B7CC87C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88C23D-BAD0-4FA5-A497-4C3F0EDE000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B02CE2-F7DE-41C3-A7E6-2DD7E2E7578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8E75F8-76D0-4AF2-AFDF-70276FC5C8F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206ECC-870C-407E-BD6C-1E87518DFD7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E38EE5-1E9B-460B-A01B-9BE6F1AB9482}"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2EA157-7F64-470E-8D5E-0D9FA2D68810}"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005A0B-F857-4595-9509-3CCBF5F29AF2}"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FC0AE3-F9CF-4C2D-A605-A251F77595C0}"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F0AF4E-D7C0-4181-AAD8-9A2D77E49C5C}"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51C2BB-3EB3-45E3-AD57-DF3FA3E5F0A0}"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87ED8D-8581-449D-9CCB-A3F805C138EF}"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494095-546F-4043-8F48-F17A5F5F04D1}"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932DF9-FBEA-4100-9ADA-47ED4AEFC7FA}"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27483A-706E-4504-B01B-434106121CD9}"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3E2483-D297-4FBC-AAD8-7D3B80CC67D4}"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9A25C5-CB1A-4EF2-AF48-439261F0E7B4}"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3CB7B4-D365-4A7F-9E07-1A9B7F6265E3}"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C2B536-BD28-4259-9720-128F8BBC036D}"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4C94A9-DC48-41C8-A90A-9DB9326DE510}"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C01850-0956-456F-B8F2-391B9AC8C8CA}"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0092B6-0175-4689-A0B1-D942BF0333ED}"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C4BD98-8448-483D-B8AD-FAC683F44D83}"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39F95F-D9B6-4C14-8A1C-DB03EEB5572B}"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F6821B-7604-46A2-9050-8D20D76EDC5C}"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D169E25-0B3F-4B69-A5EA-77841F66E8E7}"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2C1519-BC42-4DFB-AF7B-598938DA4B97}"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ACD895-9D2F-44F7-B18C-45CCAEA3BFAF}"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1C7614-7A6D-4ADB-A941-0EB40F89B955}"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D3DF0D-894D-48C8-9201-C425496BD8F9}"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D95D27-B9DD-4A7C-B713-228F30654FA8}"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E62004-0403-43AE-81B5-7F696DCB595C}"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820DCA-3C83-4F0A-B96A-20C46EACE9C5}"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DEC510-2B89-41D3-A609-E47385E5269B}"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7A6218-C791-4514-B3F2-EF76B2E10E4F}"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2DEEC1-7F89-4234-A0D6-804D43D0912E}"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4835E8-A7F0-4C84-B1FD-A7AC672A266E}"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34D1EA-135A-4100-9A32-FFD0D6EED485}"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4180BA-054D-4F11-845D-9EAC2FC8FDE2}"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ACF5E3-54CE-4FCD-9467-C24C269E226B}"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EE0D02-EBEC-4FAC-AA42-3E70C29AAAAA}"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2F41A6-C79F-4867-87BB-562EFAF72E2E}"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CF466B-91DE-4685-92E8-26C589ECCF69}"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0EB170-DA71-4D3C-A734-A7B0F55F1F46}"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40DD19-936B-459F-9B95-4F0D4B1A1A09}"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3082CC-2B68-41D5-A687-B010FC86FEB3}"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E7BF02E-D700-4B87-9CDE-2A980BB19247}"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ED4A1E-2FD2-49FB-87A5-B7F99586079C}"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9E88EB-A1C4-49B5-B335-ACC749E02092}"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FEA5FED-8917-4366-9753-3F8FC20E25F6}"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E5BE73-7F9F-4BB2-8DA3-2AD723C6BFF4}"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630413-2079-4D44-9F03-7526121D90AE}"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1151D1-3862-4398-9C7C-F55A9CAF6B6B}"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AB69B6-7548-4F0E-B5FD-D5E94FFBA0A3}"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1FB37B-051F-45D5-9B4D-A2A76A1DA391}"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282AC4-EF8B-43EF-9F85-51568019CBEF}"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25D523-8A40-4C26-996C-FAE92139497A}"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7AAD4EE-BB65-4CE1-AD3C-0697F55A4848}"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C996B5-90CE-4353-8795-71CD610B3797}"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0DC39A-54E2-4D34-8A8E-9AB32C49F470}"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5CDD2B-6B6D-4B39-BCD0-E20506E66642}"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6D01B2-3B53-4087-B1C3-D93E810B28EA}"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08EBCD-E43C-4A89-BAC9-C55BF992655A}"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E42E216-AF67-4C9B-86E7-E4FD5D7430D6}"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DBFE0F-624B-4F9C-8847-B32FCD47CFFD}"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975287-53DA-4BAA-97F9-112823A3B9D5}"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C935B3-4276-4B4D-BDDE-A4AB9099F010}"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B98B34-611D-4501-BC22-2F210D1DA3A6}"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576B976-BD99-40AA-BD2B-18A864AD7151}"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C862C8-481B-4DD0-B086-F4E76712A58A}"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BDB241-0DB8-46F5-A4CA-E672ED3331E1}"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8B93C8-65F1-493F-8EAE-1D48112B1D27}"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390B03-4D80-4CB8-B37D-CC714DABE236}"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80C658-1EE5-42CD-A369-CFE0DDAC917C}"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14980A-0D84-45F6-9667-B57F6879F5A4}"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EE9E56E-0578-46D5-866B-9B4C242B9EEC}"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55F38F-915C-4AEB-A0B0-B3C05C05070D}"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AEBD63-C75B-4C27-8098-EC66FBF4C4B6}"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846FBE-FDDC-4C3E-862C-6FDDA4948C0D}"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463EF5E-B60D-45F8-B993-D8B181F8DC92}"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DB2516-657C-45C0-9BBE-C271F0984AFA}"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E2C47FC-7717-4DAD-A952-822A867C283F}"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4FA46D-4019-4229-8462-F24B6FD7FEAB}"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E90BF2-4300-4CE2-AB3C-DA5737938111}"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B2023C-03C4-42EB-8C73-6CF1284B32E0}"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DE6F37-7F11-4F10-AA40-AAE4432FA13B}"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58E8EC-2135-4F64-B5DB-ACAB6F6A4388}"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4E9955-8C03-4B2F-A3A7-BCDC79742797}"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0BCFAB-90B9-4CA3-9E95-C775C6A97F5A}"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0E92A6-9A38-4F26-9408-D1D5760F5237}"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09C06B-0052-4CFC-9329-7F88D47F72B5}"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5BF3E2-843E-494C-9111-753E928E6668}"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F99ED2-2ED9-4915-B7AD-5AF468A5CEAB}"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88BF86-930D-46B4-B333-7C36ABC4A74E}"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B39E35-B47D-41C6-ABC4-6816AE6170F5}"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9920D8-71D4-4B15-89E0-4C4D4B7E0D7F}"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2A0115-CB73-49DA-8A5D-DCCBFF15B2BA}"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B1FA887-6BD7-4D48-AC10-033F1222FC6A}"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DF83BA-A1E0-46B2-A809-CAFBCF0EF538}"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015DBF-603B-4A5C-9AE4-38790FA94994}"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3952BD-762E-48BD-A53C-DDF57B2E8607}"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7CF8C2-AE0E-4836-BE2F-32C5615C29CB}"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75D279-8008-421B-9223-4253E8C7CB18}"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7C6236-C56D-430A-9B0C-4055C40BD158}"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7BB358-977A-4B02-AB3C-99AA8519140D}"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6408AB-F5F5-4A8F-8192-7F929618393C}"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3D1F82-A383-43F4-BB9C-1D85BB509F3A}"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7F7ECC-457E-48DB-BC05-44E1596CBA37}"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68A0C8-5DC8-4682-A607-D07700671AC3}"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032E2A-08E8-4CB3-966F-CFBBAE1283F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CF43FB-D08C-4E4D-AEFB-9ABF179FE034}"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7795B1-2C40-408A-9367-5E150CC62465}"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4A145D-1B77-401E-B7F3-2052D1DC2B94}"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A49101-4313-4743-B099-726405F0A6F1}"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5F1CCA-FB76-48D9-818E-4BD431FA3F99}"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AC9D82-9082-49C2-8F80-38871B3CC705}"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FB3D0C-1AC9-4495-B98C-F26B69155BCC}"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17D6CB-4AE1-48A2-9FCF-8A2747F06470}"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2DF72D-335E-48E0-8B93-3B552F5138FA}"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9EDC65-E59E-4845-A3E8-67E56CCCB3CF}"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EEB52A-5A31-4136-8D52-17FE1CF293DE}"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C15340-22D1-4840-9BC3-BD5BD01BF0AA}"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09EA6F-2147-45E1-AF2A-82326757E7F8}"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197AC0-0977-4201-A371-2632CC57637B}"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734726-1F70-4671-891D-F63527D88FE2}"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C73DAD2-28F3-43A3-A441-F4BADDD816DD}"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21776E-FB61-47C2-8ED4-AEB48625552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F2C415-D068-4956-8B8B-D8476C8877E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A0331D-AA22-4052-AC6C-2CB476260F6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98D91A-2BBB-465A-8F5E-926573F85F0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073588-4A54-486C-9167-D48A9AED475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3CD146-5E5D-4ADB-B4E0-AC529C1A219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07F064B-D842-4E08-90F9-67D74BCD7FA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FA390C-A64D-4C8F-BF7A-499000650E8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825430-40C1-4CD5-A4E8-2662CB72B2A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7B2303-5FD0-49BE-98E2-91BE20AA257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C304FA-B4F0-4345-9AD1-62FFD751979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A14546-0157-4CD5-8892-F1EE417F7DB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DC3D42-D464-4162-826E-CB75B58933E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85DAFB-CD14-4F9A-8081-7DD9D2A8875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2CBA42-AF19-4B0E-8440-2A2221CA55F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F94D70-992B-409F-A38F-29B3EBD2AA9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7AAAD3-7DCF-41EE-8BDA-5A5C9B452CB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B77C0C-3A3C-4410-B573-9519CECD505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7FB41E-2ADB-4A1D-9CF0-751E5754917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D23015-16B4-430A-BCDE-0DBC9636B8E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0A76B8-B8F5-45F5-A613-E6C8526633A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955BD3-C4C4-4F79-B014-926FCD38B61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D69964-4307-4947-A157-D0A88EB080A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50C947-CB70-4DAB-ADF3-037E464716A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E76227-11FD-4A07-A1B4-E867E387BD7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164DD3-9CDC-45E3-A7E8-ACB3B6136DA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2596CC-55F5-4493-91C7-D9E6491A249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019206-4264-4BE0-A2A4-A884E41DCE1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F7DD9E-FD85-462B-808B-6CB8A650D2B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48C65E-B98E-41B7-9A65-4E2E4A862F8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566366-5612-4C73-89C6-42A41A85C45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0A1D19-72F2-4F2A-A891-34A59D7C66B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6B4471-34BE-4EBB-A21A-C41FE9B6A92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986B9B-C5B5-4B72-AF20-2BBE8D35DCE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F5B950-A96C-457F-A411-9B2D1548550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440A3B-E868-4D7E-9693-58FA98C40E2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7B9D29-98F8-40CA-A5BC-6C783C54F52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ABFD0A-5AEB-476F-9F99-8C73C71CF9C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356B9F-4138-4976-8FB6-0C29BED9011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4B7DF3-B813-4E25-9F8E-CB9C13FAA93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5F36B6-D797-4677-9E42-0DF433C8660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39926F-4557-4ED7-B894-E37C1F61ECB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D753E2-6D32-45DA-97C3-53BDE984607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458EEA-7CAC-4E20-BDEA-DC154BD2FC1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1CE782-EDAB-4FA3-8DF5-7934C942D88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BD2103-F698-4C19-A460-87366678DDD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949411-3B61-41E4-82B2-E8B7199C179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785CBAB-F864-46B4-879B-B7823CE7DE7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B0686E-8943-44F9-B0D2-9395E47C08D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786E68-ED28-47C8-9A5D-EE30F8615CD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A6220D-737F-4108-BF5A-70A2F888BF4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D97167-DC3D-4766-8C24-554A138A60C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79A76B-7DA0-48B0-ADCB-26D56946CCF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3F17F8-3F3A-4CAD-9BD3-817B89175A6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95C36C-59A3-42C8-B491-0E07A7825E1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08E019-F544-4E55-ABBC-D50F99255F5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66E490E-F985-4B7B-96BB-284579BCB4F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614E1E-394E-465D-8D74-DDA8B8EB56A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0AB32A-41EA-4023-8EDF-C87A0F54B6D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216D5E-76FC-4D98-A2CC-403952693AC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0517B1-A60D-49A3-8237-E43DAFE15E0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CDE764-6542-4B0E-837C-3C709C62CD0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F1AF40-51E7-4F4F-8038-87A6D0D0B31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73801F-BA8F-4F1F-A632-A3F4CD3DB13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84FF20-13FB-4B21-B132-DBA8E341D77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DD1DB9-721F-4C83-93A4-4F2C28A5210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BF8FC5-F6E1-414A-BDEC-2C7DECBD28A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9571E8-6AE4-484B-8D21-4814B88A86D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E58A3B-3A5A-476C-9426-AE40744860E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0EBBFF-1922-4CBF-981E-A9394F93F41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CA0D8B-9477-4953-9D64-D586A814A62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2A6E76B-5A51-45CE-AACC-9FCD7EE69D5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A8ACD4-8411-4135-8360-476438D480A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F80A58-3A3D-4578-A204-C09DC2997EC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62C726-DAA1-4E56-86BC-5E02A121508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62C853-5A7E-4A21-B15C-DCB33EBC21F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76D354-CF48-4C79-BFE4-C3F37FEF845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B3CAD4-FEB3-465E-9FE9-8B7F65B4E50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F5035D-0603-4934-83DB-14623F54CF3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01AFF1-76D0-4F52-A994-F79F9F81E22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238E38-74AC-4388-B7D7-3CF525B4A1A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99BE4F-CD1E-4536-A99C-4DC94FD362B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FD3290-9D33-48FE-BB08-C5AD0B48A9D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DE590A-A949-4FBA-8589-CADB87CDD4B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DFBADD-F122-4CBA-AE00-1063134F161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